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3832-DE79-4426-B9D7-393D429888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0F41-3EC1-4286-A737-6CB937F3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840-A050-4CFC-84A9-5716BE79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E56-CF74-41D3-A9CA-213C96B8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30C-B409-464C-AFB4-45F3007C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D5E0-CBDA-4DB6-AD48-68612372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1720-2353-47B5-AFFC-4F1D5438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BDCA-6146-459F-9B24-0B25089C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2ACD-30AF-4D6D-9159-C2AAE8B1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F234-498B-4270-9B4A-C4EF7D32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32E7-F5E0-447B-9887-8243714D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8F13-B7FD-4B0F-A0ED-40BEF6B2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B0A-CA23-4EA8-A0E3-3EFA5D4D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704B-CBF2-44C2-BBB5-F782865D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F0B8-B04A-4CE6-8235-6659C5D8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3EC6-EE75-4C5B-91D4-EFA3A179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BCB4-4A5A-4D35-9E64-DF5497B6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611E-4C23-4FD3-9A07-AC6B8FD3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5892-F186-40B1-B9F3-00DED294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840-121D-4298-8A86-252C85C4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86A-9147-4E3D-8D05-58CB97A1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E04-3B46-47ED-BAF7-987BE50D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1A2-64C4-484A-990C-13532403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9CD-4DFB-443C-A286-77329916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0E6-68EF-4E92-9EA4-DB0DE193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280E-57C4-4383-B086-4B15B5513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C8F4-7F9C-4D24-BCBB-9151C7452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3361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S Biology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ore Principl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881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 presetSubtype="130116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0" presetSubtype="130122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5379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or tissues are killed and chemically ‘fixed’ in a complicated and harsh treatment (in full detail in table 3.1 pg 52 Rowlan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es this differ to light microscop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treatment can result in alterations to the cell - known as artef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images produce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rcRect l="0" t="0" r="0" b="7411"/>
          <a:stretch/>
        </p:blipFill>
        <p:spPr>
          <a:xfrm>
            <a:off x="3352680" y="2260440"/>
            <a:ext cx="2708280" cy="3581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248520" y="4470480"/>
            <a:ext cx="213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mission electron micrograph of epithelial cells from a rat small intestin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ale bar = 5 m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Scanning EM microscopes the electrons bounce off the surface of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 images with a three-dimensional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 detailed study of su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0" t="8390" r="0" b="10688"/>
          <a:stretch/>
        </p:blipFill>
        <p:spPr>
          <a:xfrm>
            <a:off x="5562720" y="2666880"/>
            <a:ext cx="3382920" cy="23688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9" name="sem.mov" descr="sem"/>
          <p:cNvPicPr/>
          <p:nvPr/>
        </p:nvPicPr>
        <p:blipFill>
          <a:blip r:embed="rId1"/>
          <a:stretch/>
        </p:blipFill>
        <p:spPr>
          <a:xfrm>
            <a:off x="2971800" y="28195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1295280" y="1981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atch the following clip explaining S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4495680" cy="3052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nk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learn.co.uk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icroscopy-uk.org.uk/intro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wrn.com/feature/education.a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feic.com/support/tem/transmis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anka.livstek.lth.se:2080/microscopy/foodmicr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ght &amp; Electron Microscop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47920" y="2209680"/>
          <a:ext cx="7010280" cy="429732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n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e of l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ses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 s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n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 of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it can 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67"/>
          <p:cNvSpPr/>
          <p:nvPr/>
        </p:nvSpPr>
        <p:spPr>
          <a:xfrm>
            <a:off x="1371600" y="1523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 &amp; complete the following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im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olving power of light &amp; electron microsco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fference between the light &amp;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mission &amp; scanning electron microscop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es magnify &amp; resolve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y began in 1665 when Robert Hooke coined the word ‘cells’ to describe the structure of c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about 2 types of microscope - light &amp;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how they work and the differences between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not how much they magnify that is key - but how well they resolve…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mit of resolution of a microscope is the smallest distance between 2 points that can be seen using a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 measure of the clarity of the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icroscope with a high resolving power will allow 2 small objects which are close together to be seen as 2 distinct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 is inversely proportional to the wavelength of the radiation it 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819520" y="4191120"/>
            <a:ext cx="4019400" cy="1677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97168" presetSubtype="202246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2880" y="1600200"/>
            <a:ext cx="4694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ies of lenses through which ordinary white light can be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cal microscopes can not resolve 2 points closer together than about half (0.45) the wavelength of the light used (450-600n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lose is thi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magnification is the eyepiece magnification multiplied by the objective magn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ximum magnification of a light microscope is x150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no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Electron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4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(negatively charged, very small particles) can behave as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velength of electrons is about 0.005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limit of resolu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are ‘fired’ from an electron gun at the specimen and onto a fluorescent screen or photographic 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is this technique commonly us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2 types of electron microscopy - transmission and sc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focus an electron beam onto the specimen using electromagn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2880" y="1828800"/>
            <a:ext cx="530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ransmission EM the electrons pass through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men needs to be extremely thin - 10nm to 100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can magnify objects up to 500 000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has made it possible to see the details of and discover new organelles - see page 9 in Coll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22:16:20Z</dcterms:created>
  <dc:creator>Fearghal Kelly</dc:creator>
  <dc:description/>
  <dc:language>en-US</dc:language>
  <cp:lastModifiedBy>LEGION2</cp:lastModifiedBy>
  <dcterms:modified xsi:type="dcterms:W3CDTF">2016-01-11T13:18:03Z</dcterms:modified>
  <cp:revision>33</cp:revision>
  <dc:subject/>
  <dc:title>AS Biology Core Principles</dc:title>
</cp:coreProperties>
</file>